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611-0D1B-4DBE-8D7A-2ECEA042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198-A33A-400C-A895-C5060BAF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7FA-C69A-4024-B213-6C3B5027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723-DA1B-4041-B876-34E48A3F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2AFD-7E22-417A-B83F-CE7BF3CE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51DA-D1E9-4731-9050-CAC86D92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7AFC-6325-4B20-800D-64BC0AF9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FD5F-37DE-4CA9-B69A-B6F94F53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698F-5AEA-4DAD-B1BC-75D4E756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4CF5-3F49-4619-A200-05E34E23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9C78-3948-47F8-9CEF-69711A8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CD2-632C-4D00-A6B9-6E72C7B6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1162-AB47-43C5-9E77-E4C1B532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0AEA-6CC6-4565-8994-37ABCC39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57C4-B0FF-4709-BD68-C44C885E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CCCF-BADC-4FAD-8DF2-84B4FD73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0493-797B-4A39-9311-3B4CDC6D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BD67-7095-42E1-B35B-186AB866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A8258-495A-460B-A5EA-F546C17A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64BFD-9CE3-4D21-AB6C-5E9A810B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B554-DC13-4225-AC47-29AD3405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67AB-5DE9-48C5-A71A-35818581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E7A-29C9-40C8-903D-93CC025E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F964-97B1-4456-BA40-3A7933B7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7D7B2-2BF0-4F2F-ADC1-168EB95B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FDF5-900E-4DA3-A578-3404BE0D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BC70-9763-4964-95A9-73BE0048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9B27-8E1E-45F1-81FC-63BAAA3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C99D6-2AFF-4815-A4B7-5EEB546D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AFC5-7132-47DA-A84E-B69988E5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3277-12DF-48EF-A3CE-853D1A85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15743-B492-48D9-BD5F-6764DF9A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FAB2-7848-4891-A6B5-E1FA2078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02E-5B8E-4D4A-95C5-950B96A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E4B54-E25D-481B-9D1F-00D79906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BA4D-86CC-4BCF-9349-560BE3D7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4160-22E4-4B4A-A902-7F344842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C873-6903-4E09-8BB5-68788EB9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1CDDC-CEEF-4369-83E8-6CB6E7CA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EB4D-5246-4605-AE3F-164F19D7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92369-8DCB-4033-8310-217451F2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C1640-9A54-4C64-87D8-6C83F9D2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2EBF-F176-45D1-B5E3-5512BEF5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4664A-BC7B-40B5-8AD7-92817280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D1F-4D44-4521-989C-B1401AE5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76165-1DF3-4BC3-A317-9F1E246E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649A1-94AA-43C2-AD1B-9B3499D9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0ED2E-DE7E-4DBF-BF6D-FBDB4575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9A2B1-5233-4E89-A157-12DF27EB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BBE2D-398D-41D2-AF18-F4CF4864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563F5-21F4-4B7C-8E9F-91644E29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2027F-934E-477D-B5C2-71C4DF43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BA01A-7A51-49E8-8668-9F44E8EA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A8745-D9A6-4848-AA3C-F548E562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FD24-719D-4F6D-BE60-08FCD997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1B5-CE3C-49E8-A424-CE008479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F5B98-2357-481F-A1BF-00202CAF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C0F16-8D6F-410A-855A-98F846FF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C5BF3-A67C-4600-994B-09DEB0A4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164AB-2BDB-43B2-8C76-D6BFABD3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E6CE9-E9EB-460E-9DFB-78439FA7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7601E-AABB-4286-B623-8000E0DC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0021E-1B6D-4088-9E36-E73376B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FA7EC-1504-4257-84B4-F772E007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4C7FD-9AD2-4046-9CB8-713C9B9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72E1A-68A3-4059-916B-F00B57FA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876-0BDB-43A9-B0A8-C27D2D8B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75D2-4767-4870-833B-2BC3786C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07BA-0814-46ED-B1EB-C154ECC2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19F0-96DB-4E2D-B1F5-69089461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66C3A-5943-4D3C-BD3D-E8164E27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D78AC-C06A-4951-9B69-87C50EC6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3C9BC-1C38-44C6-A63C-E60701C5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312B5-442D-4838-BA4F-1E95D3AF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A43C8-94EE-4D06-BCAC-662875DB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59721-369E-44BC-8F1E-09EC92EB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52407-0602-40F4-805A-5B57C0E7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2AB-553E-4D8E-A5D6-081AA19C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A8126-CF9A-49D2-AA5C-6488057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FB33F-12AB-43CE-AF59-08D40DDD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50593-7781-4800-9F8B-B30FD1A0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A37B5-3AC7-4F03-83DD-5BE3B426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8691E-D41F-40C0-A348-78E455F3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B93DB-C863-44C8-9F5F-01C42E46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C6D86-61DE-4B03-B949-17644D7F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A2B5F-8434-4042-95AB-181685B6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155C0-F1FC-42DA-97AA-F5D5ECAE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BF8F9-CD2B-4D89-BDFF-10A4B802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9E3-4866-4BFE-A11C-04296DDA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9F317-6C6F-4D65-A2CE-46C5FA8B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06587-911B-43AC-AEF2-7B4308C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782F7-772D-4303-8B2B-D1C3A993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67560-331F-4240-AB4B-5B981EFD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5F569-24E0-4F49-8FC8-F871398A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338AC-C3A4-4F7B-AC02-C2DB6C2D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668E4-E40E-4702-B3D0-8E4D132B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D9C13-68B1-4156-B21B-EBB23009938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6654B-E685-4AC1-86FB-A307E9D121A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ADD3C-5398-409B-B9C9-5B7FBC003EDB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49B43-01DA-4D61-8C2A-7644CF2C939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9B3CE-EE24-4CDA-B1E9-4EF0C5DF6E0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8FA02-0CC8-48C8-961D-43B5EA1984D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80EBA-24DF-4318-BC7B-6C8DE945A48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05379-34F5-41DA-B4BD-EC76D725946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E1D84-CE8B-4684-B2F7-8FEFF8AD8E9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F524B-D9A9-4D0F-A71A-0AD09FDCA1D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AEEAB-D114-4079-B92B-E170052FF7C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F91C7-2B35-43AC-9041-9B0EA49BC3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B9D1A-C160-410B-B730-D8F77AB372CC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3441D-D1EE-4015-BBED-6AAAC335E40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08643-E8AD-44FC-851C-ECF62806B581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8E16C-8429-4C6A-B3CB-04F544CE1B9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1417680"/>
            <a:ext cx="86868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Ashley moves identical two boxes from the floor to the table.  Box A she lifts to the table.  Box B she slides up a ramp to the table.  Which box required less force to mov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0720" y="227952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cipatory 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 No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nnouncements – broken copier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stimania incent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inp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inpop quiz -  Team pract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dependent Pract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tima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os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682560" y="1542960"/>
            <a:ext cx="79185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Simple machines do NOT change the amount of work done on an object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Simple machines change the direction, distance, or force on an object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Force is often called effort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Lucida Sans Unicode"/>
              </a:rPr>
              <a:t>1.Does a simple machine change the amount of work done on an object?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Lucida Sans Unicode"/>
              </a:rPr>
              <a:t>2. What can a simple machine change?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05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An inclined plane decreases the force needed to move an object by increasing the distance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Wedges and screws are both types of inclined planes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483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0" y="1417680"/>
            <a:ext cx="9144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Jane uses a ramp to move a box of books up to a shelf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1. Will she have to push the books a longer distanc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2. Will she use more force to move the books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3. What other simple machines are inclined planes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Lucida Sans Unicode"/>
              </a:rPr>
              <a:t>A wheel and axle makes work easier because the wheel decreases the force needed to turn the axle by increasing the distance.</a:t>
            </a: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rcRect l="0" t="0" r="0" b="18007"/>
          <a:stretch/>
        </p:blipFill>
        <p:spPr>
          <a:xfrm>
            <a:off x="6000840" y="-11160"/>
            <a:ext cx="2857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1046160"/>
            <a:ext cx="91440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alvin is riding on a merry-go-round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Does the merry-go-round move a shorter distance than its axl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Does the merry-go-round require more force to turn than the axl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6872400" y="5072040"/>
            <a:ext cx="2271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1:52:20Z</dcterms:created>
  <dc:creator>Caroline Roth</dc:creator>
  <dc:description/>
  <dc:language>en-US</dc:language>
  <cp:lastModifiedBy>Caroline Roth</cp:lastModifiedBy>
  <dcterms:modified xsi:type="dcterms:W3CDTF">2011-02-24T02:36:54Z</dcterms:modified>
  <cp:revision>4</cp:revision>
  <dc:subject/>
  <dc:title>Do Now</dc:title>
</cp:coreProperties>
</file>